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7BD-5337-49CF-AB07-251D191E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2D31-4541-4058-9231-60F1E948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5F9-1DAE-4945-9941-2F821E45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B033-3A9F-492E-819F-C3C75C5BA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CA00-5007-447F-905A-698C95DE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E1F-2F4B-4CA0-A4FF-75988207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C35C-DF83-48A4-A9D5-B0FA6A44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4557-1794-4C21-A508-AC46292F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236-E686-410F-ABD6-BCA58F1A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313-6732-4445-897F-33E29055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E4E-4721-4016-AF66-73B31ACF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8D5-D454-4490-95A6-E37B1EA1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6CC-71EC-40F2-8830-96AA30CAF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66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0" lang="en-US" sz="6600" spc="-1" strike="noStrike">
                <a:solidFill>
                  <a:srgbClr val="cc3300"/>
                </a:solidFill>
                <a:latin typeface="BellGothic Blk BT"/>
              </a:rPr>
              <a:t>Analogi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et2_th.jpg"/>
          <p:cNvPicPr/>
          <p:nvPr/>
        </p:nvPicPr>
        <p:blipFill>
          <a:blip r:embed="rId1"/>
          <a:stretch/>
        </p:blipFill>
        <p:spPr>
          <a:xfrm>
            <a:off x="1143000" y="762120"/>
            <a:ext cx="2038320" cy="1533240"/>
          </a:xfrm>
          <a:prstGeom prst="rect">
            <a:avLst/>
          </a:prstGeom>
          <a:ln w="0">
            <a:noFill/>
          </a:ln>
        </p:spPr>
      </p:pic>
      <p:sp>
        <p:nvSpPr>
          <p:cNvPr id="43" name="Line 6"/>
          <p:cNvSpPr/>
          <p:nvPr/>
        </p:nvSpPr>
        <p:spPr>
          <a:xfrm>
            <a:off x="762120" y="411480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 flipV="1">
            <a:off x="3505320" y="243792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>
            <a:off x="5867280" y="415296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4648320" y="2438280"/>
            <a:ext cx="121896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4114800" y="33526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614520" y="3200400"/>
            <a:ext cx="307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m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1157040" y="434340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6404040" y="3276720"/>
            <a:ext cx="193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not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867280" y="43434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34680" y="2438280"/>
            <a:ext cx="129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o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685800" y="36576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nim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6065280" y="2514600"/>
            <a:ext cx="1217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a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563868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33960" y="2438280"/>
            <a:ext cx="206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apple ju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6033960" y="2514600"/>
            <a:ext cx="253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orang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26760" y="2438280"/>
            <a:ext cx="175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g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6181560" y="2514600"/>
            <a:ext cx="15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tar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3962520" y="2666880"/>
            <a:ext cx="106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714240" y="2438280"/>
            <a:ext cx="189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fing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9"/>
          <p:cNvSpPr/>
          <p:nvPr/>
        </p:nvSpPr>
        <p:spPr>
          <a:xfrm>
            <a:off x="685800" y="36576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0"/>
          <p:cNvSpPr/>
          <p:nvPr/>
        </p:nvSpPr>
        <p:spPr>
          <a:xfrm>
            <a:off x="6106680" y="2514600"/>
            <a:ext cx="1113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to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943600" y="3657600"/>
            <a:ext cx="27432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>
            <a:off x="60948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3352680" y="1790280"/>
            <a:ext cx="114300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>
            <a:off x="4495680" y="1790640"/>
            <a:ext cx="1219320" cy="171468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5715000" y="3505320"/>
            <a:ext cx="2743200" cy="0"/>
          </a:xfrm>
          <a:prstGeom prst="line">
            <a:avLst/>
          </a:prstGeom>
          <a:ln w="57240">
            <a:solidFill>
              <a:srgbClr val="787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llGothic Blk BT"/>
              </a:rPr>
              <a:t>Determine Mea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letter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d a drawing of Gloria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BD04904_"/>
          <p:cNvPicPr/>
          <p:nvPr/>
        </p:nvPicPr>
        <p:blipFill>
          <a:blip r:embed="rId1"/>
          <a:stretch/>
        </p:blipFill>
        <p:spPr>
          <a:xfrm>
            <a:off x="4648320" y="2435400"/>
            <a:ext cx="3809880" cy="274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BD05090_"/>
          <p:cNvPicPr/>
          <p:nvPr/>
        </p:nvPicPr>
        <p:blipFill>
          <a:blip r:embed="rId2"/>
          <a:stretch/>
        </p:blipFill>
        <p:spPr>
          <a:xfrm>
            <a:off x="914400" y="4033800"/>
            <a:ext cx="31240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BellGothic Blk BT"/>
              </a:rPr>
              <a:t>Multiple Meaning 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ip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(p. 1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d en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ful h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lip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(p. 23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es his or her foo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ittle pieces of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800600" y="182880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fall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( p. 2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s on the 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f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00:00:40Z</dcterms:created>
  <dc:creator>KSD</dc:creator>
  <dc:description/>
  <dc:language>en-US</dc:language>
  <cp:lastModifiedBy>bonnie.franklin</cp:lastModifiedBy>
  <dcterms:modified xsi:type="dcterms:W3CDTF">2011-01-20T03:29:45Z</dcterms:modified>
  <cp:revision>7</cp:revision>
  <dc:subject/>
  <dc:title>Word Relationships</dc:title>
</cp:coreProperties>
</file>